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07D3-25E0-4E6D-8B31-06B711DC6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C8CF-7E69-4B7E-9DDC-473160BBD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B1ED93-6BBF-4BEB-B3C7-DCDB3DAA6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F0E7B0-5140-467F-A616-3537C5FA2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31EA38-41EF-4906-A7E3-30FEB03A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49B91A-4713-4DF4-A731-63A1E390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E4FDDD-EC76-4F10-A8F4-8CF00548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C8CC27-1E09-4C5D-9062-C034C9334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D3B256-196D-4976-91D9-C85618CBB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32E978-E5BD-46F9-886D-3B298E74E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EA9FFE-1C9C-49EE-9498-E491E25763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929421-316F-4E79-9841-849B674AB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B91BE-6F86-4D1B-BF68-4F9EF609D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D83C32-1AC0-4D27-98A8-5FB5C482A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644EC14-5F13-47CA-ADE9-0CD61117C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4F9D9D-F233-4BCE-B691-11B9900BC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D53EAD-BACE-4614-A251-1BC1BF208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B1FA1F-9F49-4790-A27A-A2993FF6A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BD6D06-B5F8-4B25-BA96-F2BD637F6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1F677E-C45F-4FFD-BCC9-D2B846F2B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E17E8E-5C8C-49C7-8AC8-1174B99C8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EBF83E-A004-41E7-A0FB-BAD81CE10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15000E-3275-464B-89BC-513B094D0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C4CDF-601D-4C2F-86B2-5CFC6F113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78C3A1-5BB3-4AF4-A9AD-E4506FC183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2FE17F-FE44-455C-A555-85F11F4E2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84E8AD-3AF0-4FE8-905F-EEE4D17C0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4640F1-8413-4626-BAEE-13953075E1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981937-B27D-4FB3-9F71-513A34A3C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164440-AEC4-45DA-964A-7DBD9284F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B13AF8-51F8-4339-8418-814FDFA91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754027-4B0E-473E-AD8C-9C62DA902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588C87-7BCF-4C47-85EB-C467ACD8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5B6F05-B490-473F-B8BE-B60032FEA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19C0E-3D41-47CC-A083-7D3F924602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5A31C3-A361-4BCB-858E-1B57FE66A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DA9915-129A-4348-93AB-71F759B55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BF4D34-CFBA-4F13-B27F-91B35B2D7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68AFA2-C026-4AD2-8C91-4319881F0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F10ADB-915B-40C5-B7EE-675B03599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A3F11F-3550-4619-9D3C-F11D5237C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0EF961-A474-4E6C-A3AE-9474AD84B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1A9A5D-857E-4EF1-AE91-061690D62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5B347D-E05A-4A96-9BA1-E53400856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1DD1D11-3318-4C78-ABFA-F1BA2075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BDE4C-E683-47B2-B7E1-565BB4FF3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E33946-5969-4F49-89EA-C654AF21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AACEBEB-C05B-46DA-991E-5438F5B74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051D0B-0D14-41CD-BFDB-90C8FA52D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5CD5B4-3E35-4BB1-A6AE-C1159536C0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1410E5-93AF-4D82-84D8-6D73ECDD7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5CD223-E3C2-4173-ACB0-379E662C6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37C03A-AAA4-4234-B2E1-4A2C6DCE6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A0D0B99-E1BE-4307-959D-2054417F3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94830F-FEFF-4BF3-B8FF-AF0E193DA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EC0CF9-542F-48A3-966E-F06C9C396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42A5D-E256-44DF-AB04-30F97EAB5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F6CB9B-6CDE-4243-869F-0B3B7BF65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E9C9E4-A3F2-4F63-9A48-BC0A16FB6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C35910-B4EB-433B-B01F-9B596B93A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56B286-65EF-4E16-B54F-4577AC4B0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C9842B-46E7-4956-A256-374FEBE9E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C2A909-EAF1-45B5-93FC-7DB51F255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D59B75-7EAC-4159-A947-47D77AA18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C78F07B-D754-4DC2-A245-705EBDCC2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1B2E6E-0ED2-4189-89BC-0D8C0EEA9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29E8D5C-8683-4A8D-B7F7-7E7A2FDC9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F68A2-6DA9-4E6C-874E-57DAE6EBC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0BD4F6-D19D-4302-A358-D8F19747C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5EB580-6A0C-4CD7-8ACB-79DBE8CB5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4C3282-9384-47FE-B653-CC72CE783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E2391A-B56C-4F67-BB24-98B0BBAEB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BA4987-0294-49ED-949E-AD841D2E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057EA5-9EE8-4072-A70F-62EC14927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B127DC-289A-496A-8F78-CCB96ADF3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BD1D73-A371-4231-910C-4C6516D7A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85E8EE-E7EF-40D6-9476-3D7C2E844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570FD0-5F20-44C4-A6FB-104ABAEB8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ED0DB-DEEE-49F5-9EB5-DF7383F94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772D33D-E9E4-45BE-86E8-99E59578F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517BEA-FFEE-446B-ADD7-7096DA6C3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BF3FBC3-7257-4A86-96F1-31C329ADC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F488B9A-3A77-4AD7-B536-85B0FAC7A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AF7171-1035-469C-A5B5-6B9C79A02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AC70C3-EA93-4413-AE61-207A9559B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BC8CAE2-607D-4539-9A95-4568E1366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E9C59E-F0F2-412C-B6D9-D2B145BB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8271EB-D3A2-4F58-9799-505FF3E15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8B2678-2ABB-4C76-83A9-6477BEF0EC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EAE0A-746E-46DF-A789-CC6F5CE57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B14A8D6-1A3D-4856-B405-FF530B56E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21F3DC-BA33-4488-9907-2CE01479A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5DDEE8-A012-4C0D-9A15-95199160D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7A87D3-8DB5-4307-BFC0-C2AB6DEA2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7B4A7FB-A392-446B-943B-FB510A052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967A6C-F295-4AD0-8D28-8EFD7A831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6D7F94-903B-4255-B494-65F4ABBD7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5D66C9-93A4-4673-A947-7016A786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297C8D-56C0-400B-B628-D907F8831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BF06E9-7D28-4406-AF53-308FE6D5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C23BA-281B-46FA-ACB4-7AEC7ED58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83209E-F301-4228-AF86-EA19D3A9E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120F90-CC51-4022-B6BC-10C6B3E3B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21F9CC-38BE-4BDA-AC41-DB4740829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F7B888-9FA6-4A78-8712-AD8005BA7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D66692-B5EC-4F69-9DF0-B096DB90E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53B159-DD95-428F-A808-69AAC1D6D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73066B-9B47-49A0-A689-6390931C1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48696B-A9AC-49EC-A819-3D80CE16D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15E81D-877C-485E-86E3-BFEC410BB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703D837-8BA7-4E67-AF1D-64EBB0144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1864-B51B-444B-8BE3-BEF916206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B792A-A1E7-46D8-98DE-B9C7247B8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39F581-921F-4E45-8721-F09B9869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7A60AE-60FC-480E-B16F-B2E66474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A66873-F6DC-4696-A9C5-D4C898865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054002-CF0E-46F9-A40B-5A15469CC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8BEFD1-AC8D-469E-84C0-A928AC76E3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B4A2ED-900E-4F73-A208-D7419BA09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0A2DBE-3735-4351-828B-78F1D6839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A49B1B7-2881-4696-92F8-5A93C00EA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7F8CE7F-CACB-4AA1-AC86-3F519AF75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283CF1-F0FA-4402-B5DF-3451F6FBD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CA7B7-466C-438E-85B3-8F391E416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E301A8-4DF9-48A2-84A8-A81099BB5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849740-AA4D-460A-B44E-F1E8A475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EACC66-B248-4C99-AFF3-FD0FCD8A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BCD909-DC82-4018-A4BA-51C03B858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8EB96E-3F13-4701-868C-58E2B24DC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56BE3DF-D90A-44E3-8AE5-1103E7E25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B36AAA-06DC-4E1C-9B39-7371BADB1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078411-5194-4260-AA94-81E79F316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C96A48-45A6-4588-ACBB-B86FD40B5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7D82B62-3A44-4470-B74D-8B25102E4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3AD3D-BDD9-474D-92EB-22A92D3D1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AA8E41-2C60-4903-8974-128D9B7E2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018F9D2-E3B0-41D6-89DE-246B97D2B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6D64A3-A1EB-4BC2-9AFC-507BE2ABB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7685E9F-712A-4492-8ED6-A877B1E45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DB2144F-1222-4905-A2FA-21BC6CE20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6E2D47-E920-4E7A-A5BB-1A8F46367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469A1C7-CED7-499E-B175-0B84D66A2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833752-5D5B-45A4-A8F9-CC1233D06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E3ABB0A-B8B2-4E7A-B826-1BF16BB17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E0F08E-792B-4831-BA7A-60A1EB219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3161F-6B08-49EA-B9F5-A28D44DDA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1BFE92-76D6-4D8E-9E16-5A3E6C2E8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4E5544-4C90-4A97-AF3B-326DB052A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B62C0F-4382-41D8-9492-2FFF5744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167E091-CF69-4128-8D09-FFB036223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D7D5BF-178C-4F53-A290-8C0BB9319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0DF0E3-C295-42A9-ABF0-BA8CF9084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0A353E-2D2C-4FEB-9674-D700BC294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3F9FAB9-75DF-4A3A-A9A4-67BA5628A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09C0A7-0E6A-495B-9259-1F021589E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CF9002-BE4A-42C9-8C77-BF8FBC3C8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DC6E0-E525-422D-9362-E4F764C55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1D7B9D-4641-4643-BA3C-12F67603D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75B521-15D0-4FD8-89AB-3BDBD6D0C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42611E-D355-4C01-B676-64AC225AC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437412-24F4-4A7F-A3CA-E455702EA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363B3C-BB5F-4F6E-BCA5-5382757C2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BFFEA41-C8B1-447A-9A38-AD3FEA48D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94F257-C6FF-4D8B-B8A5-CB83D66B3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023E3E-AF18-4770-8527-FD2B1C1F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2E0EB8-3760-4064-B10B-EE3560A6F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14120E8-360D-434A-BAF8-42C1EDD85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F7727C-1A9C-47B3-BC0B-B45C0A34B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4A9BCE-44C0-4739-AC20-910820664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845E781-568A-47AF-93A8-E9D5C6CDA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25ED74-D36A-43E3-94FB-6CD11BF84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F0C73-82A7-4173-800C-E33DEB79F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55E9D-01E5-4126-8736-CFC6956C3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D1D11-D2AC-4692-9035-2456C1D23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A449E9-26B3-4572-A345-1A345326C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F6D48-B0B0-4510-A35A-C50AE8889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FA516-3686-4988-8A8B-32AA951DB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B5775-6872-46E5-99C6-C6FE5384A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2D35F-56EA-410B-BFBE-79F00044B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B9619-24E0-4393-A950-44F34AD4C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655E11-6072-4D92-AB00-E5BE34057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07926F-7737-40C2-A03C-D0CAD25AF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A548A5-4017-46EA-90FD-8DA7D510E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BF1671-8F1B-4B2C-AF93-4B89C75E1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A83BF-AFCB-44FA-A378-50432D85D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A44AF-D360-48C5-A9BC-2ED64C394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A230-D5AC-4DD5-8095-F13400A70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3B229-B00A-4014-9683-3911D13E2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2715FB-B95F-4EFB-B9A2-7B928533F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55180-A4BF-4A88-BE96-A1562DF43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D4DAF3-B930-4874-88B9-CC8413175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0DBCF-D42C-4EE5-BC34-F2B9F1B7C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455185-DACE-41C2-9D06-3C3685155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DD261C-CF3C-4F60-9A44-884F7C934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AB3DC-2863-4128-8023-879F305BF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B53E5-292C-470E-AC4D-2748FA165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BACE27-9515-4255-81B5-87AE70C1F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3900-635E-49ED-B613-2A9589851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2DA9C-040D-4596-B663-E3137AB99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502645-1308-4322-BE1C-FB85C00A8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0C913-DE23-4FE0-8E66-7BA169EAA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EB6A3-2C3A-4BC0-A0B8-3E501E9C4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85EEA4-C9D0-4E8B-BCEA-F2693B802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BF34EB-DC98-459B-AE75-8EDE1168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417ADD-BA5C-4EBE-AAF3-D6562A77D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05562-F0A4-43BB-B02A-58327D47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FBB61C-2F6C-46F8-AEF8-9F4024698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DB7C5A-C132-4FCC-BD21-EFB6611F5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4742-17C3-47A5-A62F-7680D04D8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C3A902-CFE5-4778-B13A-96BA8FD0B9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5A0E8C-D3C7-43E3-A598-4665C9E8B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933722-6C59-4EA0-8F3F-6E2569B15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1649E3-242F-4A07-82F9-B07819EA5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FB905B-898F-4467-B7EA-DCB4591C2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CD5C32-EC2D-4A44-8941-4F63F0D61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18A103-F761-463E-BFA4-C6D8A1BCF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DA401E-1FFA-48FF-B9FA-E9E1D882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BA8A9-56D6-48D3-A700-0CCACB7EA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E68409-7104-4558-B003-7F45376A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AC4E-C5DC-434E-A698-44A16FC3A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B41A84-D5AA-49F9-9C84-93E1C4169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AB9F71-E112-41C0-96A6-22FD45657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884467-544A-447C-B2C0-98B1667A4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F40ED5-4F24-4A1D-A920-6C2B9D2C1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E9E71C-3978-4089-A62B-410D5A9B7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69987E-A061-4713-ABEC-69C5315C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CE722F-2016-48D4-84FC-CE1AF99EF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664112-7152-45AF-8A4F-32A6CE6F6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392E3B-21AB-4293-BCC6-3FF024584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457CDE-1189-40EF-B3D1-013A1FB6E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97F0-0047-411F-A421-85BD1EEA0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AFA3B9-B59A-46A0-B1E4-38816A67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33A01D-ECD0-4439-A645-82416A55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418376-7119-4E4D-B27F-1FC411B1A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64D81A-F1E3-46E2-AA21-37501D7F2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8EC8C9-AEE7-4997-8D9A-FAA9CC76F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A2A1BA-421A-451F-8E5A-AFC44F7A2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B32C18-2DA1-443C-9329-5369D31A7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D60A0D-CE5C-47AC-A312-4A56A3A1C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341F6B-8FEE-44BD-A429-942C5F379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BB2B96-0A8B-4210-87D2-65C8A1F03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8468-7F58-43C4-A426-8D0A5B101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0AE8BE-2D27-4BF7-877A-6EAC9EF7D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8A17C6-226D-4E60-9231-4876BFEEE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BB6D8D-2BE8-4DF3-B429-D6AFBA400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74700E-BEB1-4E19-9D8B-A771A13F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80D22F-F2F3-47D6-BA1C-1DB578FA1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D589D7-137A-46F6-A12C-3046BEE1F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2EB47A-C756-46B2-842D-26CC227E8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F6F8FA-FB7A-4A55-9791-CA557BF89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23E172-6994-41B1-B498-ABC2DEE3E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E21F46-8F95-4113-8ACC-0B4D7E41A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E273A-DA9A-40B0-8143-30A7BF3859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6F884-5F14-4566-AE4A-41C1F225D8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3590D-5C4D-480F-A49F-5B779FEE91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ABCDC-C29D-40E5-A491-9BC4C2D4786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389DA-D602-4CFE-9FFD-20B5987603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B0FE6-BB23-4465-A417-67D16E6FA6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694D3-470D-4103-8DEA-BCB4B0030C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CB7EC-8FE6-4FA0-882A-FAA8968E8F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F0DA6-8A17-4C8E-B7CA-2845A81B91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DC8E5-ED2D-42DF-AD61-AB7CF26814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81B80-38EB-460C-948E-0CC417E66D2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D0097-43C0-4A78-BAD1-C552707B34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E4CD5-9988-4BFD-80EF-45220DC3F0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5ED96-4B31-4791-8A91-71F3F4C786B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2912E-452B-4BEB-B823-40D8C4055E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829C4-88A9-4260-896D-5A65F34D8B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AE42F-28BC-4539-AE3D-18B7FE888B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00364-5484-450B-AE59-AA00AEEBC1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C4AB0-22BD-48D7-86CC-C570FF2775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DBE28-D03E-45C9-A924-3793E3D2CDD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191F0-C23C-4C8C-AFC2-B892834818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61C99-21AF-43AE-972E-37DA26B63B6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E134B-25F8-4126-8826-84C5FBDE1F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88D90-D50C-40C9-A67F-DEC6751FFB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AB57E-ED70-47D0-B78B-A06BC1930F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09924-DF43-440C-956D-ADCD52CE0DB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2D4FB-C01C-4818-8E68-5761EA6E5F9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3CE31-D97A-4738-9F3E-8C82580E4F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B405B-154B-4DF6-B756-1829088CDE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004E1-FE34-4372-A862-6096FF78BE0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F7C8D-50DA-4D6D-9F02-D2AF6D9579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A8DFF-274C-4E9D-A749-C80D8D363E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CFE57-DD4B-48D8-A31A-94C547BAD75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A25FB-9DF7-4289-95B6-25F70231DCD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0B8ED-DFBE-4EAE-BF46-F5D4CD53D5C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FCB0C-27BB-4C8E-B1BA-B97533C0F2F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BC80D-E636-4C89-97CB-FFFAB1F8BC7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9C8EA-632C-4EF1-B12F-7246F76C43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0F0BF-2651-4394-BB3E-587D6E2343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F3AF7-C4A9-4BA4-94F6-ADC49D73FD4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0" descr=""/>
          <p:cNvPicPr/>
          <p:nvPr/>
        </p:nvPicPr>
        <p:blipFill>
          <a:blip r:embed="rId1"/>
          <a:stretch/>
        </p:blipFill>
        <p:spPr>
          <a:xfrm>
            <a:off x="147600" y="3081240"/>
            <a:ext cx="884880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5" name="Picture 2" descr=""/>
          <p:cNvPicPr/>
          <p:nvPr/>
        </p:nvPicPr>
        <p:blipFill>
          <a:blip r:embed="rId1"/>
          <a:stretch/>
        </p:blipFill>
        <p:spPr>
          <a:xfrm>
            <a:off x="500040" y="833400"/>
            <a:ext cx="8143920" cy="5191200"/>
          </a:xfrm>
          <a:prstGeom prst="rect">
            <a:avLst/>
          </a:prstGeom>
          <a:ln w="0">
            <a:noFill/>
          </a:ln>
        </p:spPr>
      </p:pic>
      <p:sp>
        <p:nvSpPr>
          <p:cNvPr id="1056" name="矩形 2"/>
          <p:cNvSpPr/>
          <p:nvPr/>
        </p:nvSpPr>
        <p:spPr>
          <a:xfrm>
            <a:off x="928800" y="857160"/>
            <a:ext cx="500040" cy="360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矩形 3"/>
          <p:cNvSpPr/>
          <p:nvPr/>
        </p:nvSpPr>
        <p:spPr>
          <a:xfrm>
            <a:off x="1035000" y="5311800"/>
            <a:ext cx="7143840" cy="403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2" descr=""/>
          <p:cNvPicPr/>
          <p:nvPr/>
        </p:nvPicPr>
        <p:blipFill>
          <a:blip r:embed="rId1"/>
          <a:stretch/>
        </p:blipFill>
        <p:spPr>
          <a:xfrm>
            <a:off x="504720" y="1219320"/>
            <a:ext cx="8134560" cy="4419360"/>
          </a:xfrm>
          <a:prstGeom prst="rect">
            <a:avLst/>
          </a:prstGeom>
          <a:ln w="0">
            <a:noFill/>
          </a:ln>
        </p:spPr>
      </p:pic>
      <p:sp>
        <p:nvSpPr>
          <p:cNvPr id="1024" name="矩形 2"/>
          <p:cNvSpPr/>
          <p:nvPr/>
        </p:nvSpPr>
        <p:spPr>
          <a:xfrm>
            <a:off x="1071720" y="2857680"/>
            <a:ext cx="42840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矩形 3"/>
          <p:cNvSpPr/>
          <p:nvPr/>
        </p:nvSpPr>
        <p:spPr>
          <a:xfrm>
            <a:off x="1000080" y="4071960"/>
            <a:ext cx="4287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6" name="Picture 2" descr=""/>
          <p:cNvPicPr/>
          <p:nvPr/>
        </p:nvPicPr>
        <p:blipFill>
          <a:blip r:embed="rId1"/>
          <a:stretch/>
        </p:blipFill>
        <p:spPr>
          <a:xfrm>
            <a:off x="438120" y="738360"/>
            <a:ext cx="8267760" cy="5381280"/>
          </a:xfrm>
          <a:prstGeom prst="rect">
            <a:avLst/>
          </a:prstGeom>
          <a:ln w="0">
            <a:noFill/>
          </a:ln>
        </p:spPr>
      </p:pic>
      <p:sp>
        <p:nvSpPr>
          <p:cNvPr id="1027" name="矩形 2"/>
          <p:cNvSpPr/>
          <p:nvPr/>
        </p:nvSpPr>
        <p:spPr>
          <a:xfrm>
            <a:off x="1000080" y="857160"/>
            <a:ext cx="4287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3"/>
          <p:cNvSpPr/>
          <p:nvPr/>
        </p:nvSpPr>
        <p:spPr>
          <a:xfrm>
            <a:off x="928800" y="2928960"/>
            <a:ext cx="42840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4"/>
          <p:cNvSpPr/>
          <p:nvPr/>
        </p:nvSpPr>
        <p:spPr>
          <a:xfrm>
            <a:off x="1000080" y="492912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Picture 2" descr=""/>
          <p:cNvPicPr/>
          <p:nvPr/>
        </p:nvPicPr>
        <p:blipFill>
          <a:blip r:embed="rId1"/>
          <a:stretch/>
        </p:blipFill>
        <p:spPr>
          <a:xfrm>
            <a:off x="409680" y="976320"/>
            <a:ext cx="8324640" cy="4905360"/>
          </a:xfrm>
          <a:prstGeom prst="rect">
            <a:avLst/>
          </a:prstGeom>
          <a:ln w="0">
            <a:noFill/>
          </a:ln>
        </p:spPr>
      </p:pic>
      <p:sp>
        <p:nvSpPr>
          <p:cNvPr id="1031" name="矩形 2"/>
          <p:cNvSpPr/>
          <p:nvPr/>
        </p:nvSpPr>
        <p:spPr>
          <a:xfrm>
            <a:off x="928800" y="1000080"/>
            <a:ext cx="42840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矩形 3"/>
          <p:cNvSpPr/>
          <p:nvPr/>
        </p:nvSpPr>
        <p:spPr>
          <a:xfrm>
            <a:off x="928800" y="264312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4"/>
          <p:cNvSpPr/>
          <p:nvPr/>
        </p:nvSpPr>
        <p:spPr>
          <a:xfrm>
            <a:off x="928800" y="428616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4" name="Picture 2" descr=""/>
          <p:cNvPicPr/>
          <p:nvPr/>
        </p:nvPicPr>
        <p:blipFill>
          <a:blip r:embed="rId1"/>
          <a:stretch/>
        </p:blipFill>
        <p:spPr>
          <a:xfrm>
            <a:off x="500040" y="1395360"/>
            <a:ext cx="8143920" cy="4067280"/>
          </a:xfrm>
          <a:prstGeom prst="rect">
            <a:avLst/>
          </a:prstGeom>
          <a:ln w="0">
            <a:noFill/>
          </a:ln>
        </p:spPr>
      </p:pic>
      <p:sp>
        <p:nvSpPr>
          <p:cNvPr id="1035" name="矩形 2"/>
          <p:cNvSpPr/>
          <p:nvPr/>
        </p:nvSpPr>
        <p:spPr>
          <a:xfrm>
            <a:off x="1000080" y="1428840"/>
            <a:ext cx="4287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矩形 3"/>
          <p:cNvSpPr/>
          <p:nvPr/>
        </p:nvSpPr>
        <p:spPr>
          <a:xfrm>
            <a:off x="928800" y="3071880"/>
            <a:ext cx="42840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Picture 2" descr=""/>
          <p:cNvPicPr/>
          <p:nvPr/>
        </p:nvPicPr>
        <p:blipFill>
          <a:blip r:embed="rId1"/>
          <a:stretch/>
        </p:blipFill>
        <p:spPr>
          <a:xfrm>
            <a:off x="571680" y="928800"/>
            <a:ext cx="8143560" cy="383832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3" descr=""/>
          <p:cNvPicPr/>
          <p:nvPr/>
        </p:nvPicPr>
        <p:blipFill>
          <a:blip r:embed="rId2"/>
          <a:stretch/>
        </p:blipFill>
        <p:spPr>
          <a:xfrm>
            <a:off x="642960" y="4786200"/>
            <a:ext cx="7191360" cy="1200240"/>
          </a:xfrm>
          <a:prstGeom prst="rect">
            <a:avLst/>
          </a:prstGeom>
          <a:ln w="0">
            <a:noFill/>
          </a:ln>
        </p:spPr>
      </p:pic>
      <p:sp>
        <p:nvSpPr>
          <p:cNvPr id="1039" name="矩形 3"/>
          <p:cNvSpPr/>
          <p:nvPr/>
        </p:nvSpPr>
        <p:spPr>
          <a:xfrm>
            <a:off x="2643120" y="1785960"/>
            <a:ext cx="928800" cy="317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矩形 4"/>
          <p:cNvSpPr/>
          <p:nvPr/>
        </p:nvSpPr>
        <p:spPr>
          <a:xfrm>
            <a:off x="5572080" y="3000240"/>
            <a:ext cx="1071720" cy="317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矩形 5"/>
          <p:cNvSpPr/>
          <p:nvPr/>
        </p:nvSpPr>
        <p:spPr>
          <a:xfrm>
            <a:off x="4572000" y="3429000"/>
            <a:ext cx="928800" cy="317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6"/>
          <p:cNvSpPr/>
          <p:nvPr/>
        </p:nvSpPr>
        <p:spPr>
          <a:xfrm>
            <a:off x="3786120" y="4786200"/>
            <a:ext cx="928800" cy="335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矩形 7"/>
          <p:cNvSpPr/>
          <p:nvPr/>
        </p:nvSpPr>
        <p:spPr>
          <a:xfrm>
            <a:off x="3929040" y="5200560"/>
            <a:ext cx="928800" cy="317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4" name="Picture 2" descr=""/>
          <p:cNvPicPr/>
          <p:nvPr/>
        </p:nvPicPr>
        <p:blipFill>
          <a:blip r:embed="rId1"/>
          <a:stretch/>
        </p:blipFill>
        <p:spPr>
          <a:xfrm>
            <a:off x="471600" y="947880"/>
            <a:ext cx="8200800" cy="4962240"/>
          </a:xfrm>
          <a:prstGeom prst="rect">
            <a:avLst/>
          </a:prstGeom>
          <a:ln w="0">
            <a:noFill/>
          </a:ln>
        </p:spPr>
      </p:pic>
      <p:sp>
        <p:nvSpPr>
          <p:cNvPr id="1045" name="矩形 2"/>
          <p:cNvSpPr/>
          <p:nvPr/>
        </p:nvSpPr>
        <p:spPr>
          <a:xfrm>
            <a:off x="4065480" y="1382760"/>
            <a:ext cx="1643040" cy="317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矩形 3"/>
          <p:cNvSpPr/>
          <p:nvPr/>
        </p:nvSpPr>
        <p:spPr>
          <a:xfrm>
            <a:off x="3746520" y="2220840"/>
            <a:ext cx="1643040" cy="3160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矩形 4"/>
          <p:cNvSpPr/>
          <p:nvPr/>
        </p:nvSpPr>
        <p:spPr>
          <a:xfrm>
            <a:off x="5111640" y="3435480"/>
            <a:ext cx="1428840" cy="3157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矩形 5"/>
          <p:cNvSpPr/>
          <p:nvPr/>
        </p:nvSpPr>
        <p:spPr>
          <a:xfrm>
            <a:off x="5214960" y="3903840"/>
            <a:ext cx="2357280" cy="3142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6"/>
          <p:cNvSpPr/>
          <p:nvPr/>
        </p:nvSpPr>
        <p:spPr>
          <a:xfrm>
            <a:off x="3471840" y="5083200"/>
            <a:ext cx="1643040" cy="3682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0" name="Picture 2" descr=""/>
          <p:cNvPicPr/>
          <p:nvPr/>
        </p:nvPicPr>
        <p:blipFill>
          <a:blip r:embed="rId1"/>
          <a:stretch/>
        </p:blipFill>
        <p:spPr>
          <a:xfrm>
            <a:off x="490680" y="819000"/>
            <a:ext cx="8162640" cy="522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Picture 2" descr=""/>
          <p:cNvPicPr/>
          <p:nvPr/>
        </p:nvPicPr>
        <p:blipFill>
          <a:blip r:embed="rId1"/>
          <a:stretch/>
        </p:blipFill>
        <p:spPr>
          <a:xfrm>
            <a:off x="428760" y="857160"/>
            <a:ext cx="8248680" cy="5343480"/>
          </a:xfrm>
          <a:prstGeom prst="rect">
            <a:avLst/>
          </a:prstGeom>
          <a:ln w="0">
            <a:noFill/>
          </a:ln>
        </p:spPr>
      </p:pic>
      <p:sp>
        <p:nvSpPr>
          <p:cNvPr id="1052" name="矩形 2"/>
          <p:cNvSpPr/>
          <p:nvPr/>
        </p:nvSpPr>
        <p:spPr>
          <a:xfrm>
            <a:off x="1143000" y="4143240"/>
            <a:ext cx="7143840" cy="360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矩形 3"/>
          <p:cNvSpPr/>
          <p:nvPr/>
        </p:nvSpPr>
        <p:spPr>
          <a:xfrm>
            <a:off x="1071720" y="4929120"/>
            <a:ext cx="7143480" cy="360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矩形 4"/>
          <p:cNvSpPr/>
          <p:nvPr/>
        </p:nvSpPr>
        <p:spPr>
          <a:xfrm>
            <a:off x="1631880" y="5769000"/>
            <a:ext cx="1428840" cy="360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8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3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9:34:31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